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3FE7CC-2DB1-43FD-BCAE-BDE6FE683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Phillip C. Schlechty Pathology of Classroom is classified into three are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Eng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 Man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room in which most students are authentically engaged most of the time, all students are authentically engaged most of the time, and all student are authentically engaged some of the time.  It is also a classroom that has little or no rebellion, limited retreatism, and limited passive compli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managed classroom appears will managed, not because students are authentically engaged but because they are willing to be compliant,  As long as the teacher and the principal fail to ask the right question of the students, the absence of authentic engagement will likely not ne notic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 looks very much like the well-managed classroom except for the presence of patterned rebellion.  In the pathological classroom, many student actively reject the task assigned or the substitution of other activity to replace what has been officially assigned or expected (or both). Cheating is a form of rebellion.  Would this be a good time to show the Saturday night.  Take a minuet to reflect on you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minute to reflect about the students that you currently have in your classroom.  Class by class identify them 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Eng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 Man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 thought about my personal teaching practice I realized that I had a well managed classro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chers to follow along as I read it aloud. Frame the next section of the presentation which will ask them to define engagement in their own wor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get the teachers to popcorn out and give some general definition of what engagements means to them. Have a scribe to write a few of the comments down on chart paper.  Frame the reporting out to the point of discussion.  Limit those that report out to individuals that have not attended the Shclectly training, acknowledge them but let them know their expertise will be required later in the worksho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Phillip C. Schlechty in his research engagement deals more with students response to the work that the teachers assigns than the behavior that students display.  This ideal is divided into five responses given b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tual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ea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ell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activity, or work the student is assigned or encouraged to undertake is associated with a result or outcome that has clear meaning and relatively immediate value to the student.  For example, reading a book on a topic of personal interest to the student or to get access to information that the student needs to solve a problem of real interest to him or h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mediate end of the assigned work has little or no inherent meaning or direct value to the student, but the student associates it with extrinsic outcomes and results that are of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ading a book in order to pass a test or to earn grades needed to be accepted at colle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willing to expend whatever effort is needed to avoid negative consequences, although he or she sees little meaning in the tasks assigned or the consequences of doing those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types of engagement, ask the teacher review these questions and record responses in their interactive noteboo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8A860-8483-44E3-A28B-0021AAD6E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3BC83-D7F4-4581-8911-1B4A5B956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B8161-092E-487F-A4F1-2B9316403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1D94E-49B8-41C4-AB48-9DE55673F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50A0C-6B3E-46CE-924B-BDEDABE42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4628A-8F53-420B-BA42-6A8549F65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06948-05E3-444B-82EB-C08615EC9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04645-926A-4CA6-A60F-EED8A5CEB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19893-5BF5-4D95-88BB-25B0AF2F4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9FC44-44CA-4C24-A082-A60187819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0DAEF-A4DE-43EE-9577-12E3EFA3F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3E64E-5161-4365-AEBE-B7B49403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ADBB-819B-4568-A84B-484EC6154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6C465-3B69-42B5-B5A7-DAFE2676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DD2A-021A-480B-AFDD-9715AD771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F6CCD-D380-477C-8507-9F26F62C2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D375D-BA74-4B50-838C-447383BFA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3743A-19AA-4A1F-AF3C-8AEC01F8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CE725-8F8B-496D-BA98-0C70B506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4023-717C-429E-A78A-4AA6DAD78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47B84-863A-4739-830C-4BB91967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678FD-7831-402D-BFD0-1CAC341A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F551-1246-4E88-A7E8-EA63B9BC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96C85-9D3B-4F88-B0BF-D0CF9D113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EE53-0B49-4A97-A6F5-84D69FDEBA89}"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9E7E-31D5-45E7-A0D2-0E0757134699}"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omics.com/luann/2009-02-01/" TargetMode="External"/><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rm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ence pagers, cell phones, and PDA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ty of Voice</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Listening and Participation</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fety to Share Different Perspective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s and Engagemen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ly Eng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ell Man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thological Classroo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pg. 7</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ly Engaged Classroom</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students are authentically engaged most of the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tle or no rebell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retreatism, 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passive compliance.  </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ll Managed Classroom</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are willing to be complia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long as the teacher and the principal fail to ask the right question of the students, the absence of authentic engagement will likely not noticed.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thological Classroom</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s very much like the well-managed classroom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ce of patterned rebell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student actively reject the task assigned</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ke a minute to reflec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ly Eng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ell Man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thological Classroom</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y your different class periods</a:t>
            </a:r>
            <a:endParaRPr b="0" lang="en-US" sz="3200" spc="-1" strike="noStrike">
              <a:solidFill>
                <a:srgbClr val="000000"/>
              </a:solidFill>
              <a:latin typeface="Tahoma"/>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 More</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Chapter 3 (20 minu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evidence to anticipation guide to be used in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ratic Seminar</a:t>
            </a:r>
            <a:endParaRPr b="0" lang="en-US" sz="4400" spc="-1" strike="noStrike">
              <a:solidFill>
                <a:srgbClr val="333399"/>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ing on the Work</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the type of lesson we assign to our students affect student engagemen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ing on the Work</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can teachers do to increase student engagement in their clas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 to Anticipation Guide</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space below each statement write reflection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change whether you agree or disagree? Expla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0" name="" descr="Luann - February 1, 2009">
            <a:hlinkClick r:id="rId1"/>
          </p:cNvPr>
          <p:cNvPicPr/>
          <p:nvPr/>
        </p:nvPicPr>
        <p:blipFill>
          <a:blip r:embed="rId2"/>
          <a:stretch/>
        </p:blipFill>
        <p:spPr>
          <a:xfrm>
            <a:off x="0" y="914400"/>
            <a:ext cx="9220320" cy="41194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gagement</a:t>
            </a:r>
            <a:endParaRPr b="0" lang="en-US" sz="4400" spc="-1" strike="noStrike">
              <a:solidFill>
                <a:srgbClr val="333399"/>
              </a:solidFill>
              <a:latin typeface="Tahoma"/>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anticipation guide agree/disagree</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gagement</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responses to assig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 Engage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tual Engage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sive Compli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reatis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bellion.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Engagemen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 is associated with a result that has clear meaning and relatively immediate value to the student</a:t>
            </a:r>
            <a:endParaRPr b="0" lang="en-US" sz="32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tual Engagemen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of the assigned work has little or no inherent mean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associates work with extrinsic outcomes and results that are of valu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 grade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s test</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ssive Compliance</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willing to expend effort needed to avoid negative consequence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sees little meaning in the tasks assigned or the consequences of doing those tasks.  </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reatism</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is disengaged from the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does not act in ways that disrupts others and does not try to substitute other activities for the assigned task.  </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bellion</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refuses to do the task assig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s in ways that disrupt others, o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mpts to substitute tasks</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03:46Z</dcterms:created>
  <dc:creator>HISD</dc:creator>
  <dc:description/>
  <dc:language>en-US</dc:language>
  <cp:lastModifiedBy>HISD</cp:lastModifiedBy>
  <dcterms:modified xsi:type="dcterms:W3CDTF">2009-02-05T00:40:11Z</dcterms:modified>
  <cp:revision>9</cp:revision>
  <dc:subject/>
  <dc:title>Working on the Work</dc:title>
</cp:coreProperties>
</file>